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A45-AEE3-4CB5-BD25-30144A7F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E44-7548-402A-ABF3-D684A68C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FF9-1886-4F1B-B0CF-D886AB8F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CA6-F4AD-43DE-A08C-D6AABFC5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A2F4-8617-4A7E-8F0F-3193C07A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5F87-1ED0-48AD-BE59-152E76C8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A39C-7229-49E6-8E9E-7C9DB1D1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CC7C-AF4E-448D-9774-79BF800C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0CA3-FBC2-455C-BD02-46AE7292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BF1F-6C50-4124-A3BF-129178C2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C7D6-D8AE-483C-BC3F-73D0A6AA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B93-B0C1-4C87-AF73-BB294150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6F92-E784-4B02-9F17-EBAC6AF6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BDD0-46C2-44E9-8A20-14AE4BDB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9CFE-9C5F-486A-A6CC-C467E94F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25E1-904A-4154-8C4E-E2572983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4BC4-55C9-4170-863F-E66868A6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703-3F19-4983-9346-E2F4E617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3B1-7B6E-47A6-A93B-A3930E80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A83-57E5-4EEF-ADB2-7C739CBF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17F-7CAE-4F4C-AAE8-D06DEFAA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45E-9002-4214-9EB7-F26B743B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B02-2AC1-49CA-87A2-61B75D5D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525-07A2-4B5E-A74C-2B83574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2624-0F42-4E35-9730-EB2AB51EEB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655C-2257-4FD0-AF9E-EC423256DA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Épületek elektromos berendezése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Parapetcsator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0" t="0" r="0" b="3929"/>
          <a:stretch/>
        </p:blipFill>
        <p:spPr>
          <a:xfrm>
            <a:off x="1619280" y="2246400"/>
            <a:ext cx="54738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alban elhelyezett vezeték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>
            <a:lum contrast="12000"/>
          </a:blip>
          <a:srcRect l="0" t="0" r="0" b="-67"/>
          <a:stretch/>
        </p:blipFill>
        <p:spPr>
          <a:xfrm>
            <a:off x="2349360" y="1752480"/>
            <a:ext cx="4435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dlóban történő szerelé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6000"/>
          </a:blip>
          <a:srcRect l="0" t="0" r="0" b="2409"/>
          <a:stretch/>
        </p:blipFill>
        <p:spPr>
          <a:xfrm>
            <a:off x="539640" y="1844640"/>
            <a:ext cx="79930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Túláramvédel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Túláram: a megengedett áram értékénél magasabb érték, mely a vezetéket melegítheti, a szigetelést öregítheti, a berendezést károsíthatj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Túlterhelés: több fogyasztó egyidejű működtetése, vagy túlterhelése. (P=Ux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Zárlat: két egymástól eltérő potenciálon lévő áramköri elem találkozá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Túláramvédelmi eszközö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Olvadóbiztosít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Túlterhelés védelmi kapcsoló (hőkésleltetés, bimetál, elektronikus kioldó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Zárlati kioldó (késleltetés nélkü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Megszakító (túlterhelés és zárlati kioldó egyben, értékük változtatható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ismegszakító (túlterhelés és zárlati kioldó egyben, értékük nem változtatható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lvadóbiztosít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0" r="0" b="4310"/>
          <a:stretch/>
        </p:blipFill>
        <p:spPr>
          <a:xfrm>
            <a:off x="2340000" y="1838160"/>
            <a:ext cx="4824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zeték szerelési előírás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ndig függőlegesen, illetve vízszintesen kell szerelni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nyomvonalakat az alábbi ábra szerint kell kijelöln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979640" y="3530520"/>
            <a:ext cx="48974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ilágítástechn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 VIZUÁLIS KÖRNYEZET ÖSSZETEVŐI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világítás a környezet láthatóvá tétele, a látható környezet a vizuális környezet. A világítás célja a megfelelő vizuális környezet létrehozás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belsőtéri vizuális környezet úgy jön létre, hogy valamilyen helyiséget megvilágítunk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lyen módon a vizuális környezetnek két komponense va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egyik a fény nélküli, a fényt többé-kevésbé visszaverő felületekkel határolt és berendezett helyiség - ami lényegében egy passzív komponens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ásik a fény, ami mint aktív komponens, a helyiséget láthatóvá tesz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FÉNY ÉS MINŐSÉ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A fény a =380-780 nm hullámhossz tartományba eső elektromágneses sugárzás látható része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Verdana"/>
              </a:rPr>
              <a:t>jele φe , mértékegysége Watt (W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Az egyes hullámhosszaknak színek felelnek meg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A kisebb hullámhosszaknak megfelelő színeket (ibolya, kék) hideg színeknek, a nagyobb hullámhosszúakat (narancs, piros) meleg színeknek nevezik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Világítás céljára ún. fehér fényt használunk, mert a természetes fény, ami mellett a látásunk kialakult, ugyancsak fehér fény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464000" y="2565360"/>
            <a:ext cx="4680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ősáramú energia előállítá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őerőm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zilárd (fa, szén, koksz)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lyékony (olaj, pakura)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áz tüzelé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ízerőm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élerőm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omerőm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ehér fén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fehér fény jellemzője, hogy a látható tartomány minden hullámhosszán tartalmaz sugárzást és az egyes hullámhosszakon a sugárzás intenzitása csak korlátozott mértékben eltérő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fehér fény ily módon különböző lehet, a különböző fehér fények színösszetételükben eltérőek, azaz eltérő minőségűek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fehér fény minősége a </a:t>
            </a:r>
            <a:r>
              <a:rPr b="1" lang="hu-HU" sz="2600" spc="-1" strike="noStrike">
                <a:solidFill>
                  <a:srgbClr val="000000"/>
                </a:solidFill>
                <a:latin typeface="Verdana"/>
              </a:rPr>
              <a:t>színösszetétele</a:t>
            </a: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, ami a sugárzás spektrális eloszlásával definiálható egyértelműe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ehér fén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fehér fény minőségét a gyakorlatban két vonatkozásban értékeljü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fehér fény minősége eltérő lehet amiatt, mert a színskála egymást követő színeinek az aránya különböző. Ebből a szempontból a fehér fény minősége a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zínhőmérséklett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ellemezhető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zínhőmérséklet, fényszí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Adott fény Kelvinben kifejezett színhőmérséklete a fekete test azon hőmérséklete, amelyen az adott fénynek megfelelő szín-összetételben sugároz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jele T, egysége Kelvin(K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Színhőmérséklet helyett a gyakorlatban használt közelítő fogalom a fényszín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A kisebb színhőmérsékletnek melegebb, a nagyobb színhőmérséklet hidegebb fényt jelöl. A meleg fényben a vörös szín, a hideg fényben a kék szín aránya nagyobb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3768840"/>
            <a:ext cx="802800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zínvisszaad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fehér fény minősége különböző lehet abban a tekintetben is, hogy az általa megvilágított felület színe mennyire tér el a felület természetes fény mellett érzékelhető színétő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Ebből a szempontból a fehér fény minősége a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színvisszaadással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 jellemezhető. Adott fehér fény színvisszaadása annál jobb, minél közelebb áll az általa megvilágított felületek színe a természetes fény mellett érzékelthez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 színvisszaadás mértéke a színvisszaadási index-szel adható meg, ennek jele Ra, egysége nincs. Tökéletes színvisszaadás esetén Ra =100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FELÜLETEK JELLEMZŐI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felületek fényvisszaverése egzakt módon a fényvisszaverés hullámhossz függésével adható meg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felületek a fényvisszaverés szempontjábó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m színes és 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zínes felület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soportjába sorolhatók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m színes felület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em színes felületekre jellemző, hogy minden hullámhosszon közel azonos mértékben verik vissza a fény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z ilyen felületeket fehér fénnyel, megvilágítva fehérnek, feketének vagy különböző mértékben szürkének látszanak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403280" y="3670200"/>
            <a:ext cx="5832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zínes felület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zínes felületekre jellemző, hogy fényvisszaverésük a különböző hullámhosszokon, azaz a különböző színű fényekre vonatkozóan nagymértékben eltérőe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thogy a hullámhosszaknak színek felelnek meg, fehér fénnyel megvilágítva ezek a felületek olyan színűek, amilyen színnek megfelelő hullámhossz tartományban fényvisszaverésük lényegesen nagyob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92360" y="3710160"/>
            <a:ext cx="59054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zínes felül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felületek színe a felület és az azt megvilágító fény minőségétől egyaránt függő sajátosság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Tehát az, hogy egy felület milyen színűnek látszik attól is függ, hogy milyen a megvilágító fény színösszetétele azaz minőség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Fű+fehér fény=zö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Fű+piros fény=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Tej+ fehér fény=fehé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Tej+piros fény=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 VIZUÁLIS KÖRNYEZET JELLEMZŐI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felületeket valamilyen mértékben "világosnak" és valamilyen színűnek érzékeljük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 felület "világossága"a felület un. L fénysűrűsége. Minél világosabb a felület, annál nagyobb a fénysűrűség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Végeredményben tehát az egyes felületelemek L fénysűrűségét és színét érzékeljük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Egy felületet annál világosabb, minél nagyobb a fényvisszaverő képessége és minél nagyobb a megvilágítá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gvilágít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megvilágítás az egységnyi felületre eső </a:t>
            </a:r>
            <a:r>
              <a:rPr b="1" lang="hu-HU" sz="2600" spc="-1" strike="noStrike">
                <a:solidFill>
                  <a:srgbClr val="000000"/>
                </a:solidFill>
                <a:latin typeface="Verdana"/>
              </a:rPr>
              <a:t>fényáram</a:t>
            </a: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. A lámpatestből kilépő fény által megvilágított belső tér felületét jellemzi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jele: E, egysége: lux (lx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24000" y="3573360"/>
            <a:ext cx="47404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ősáramú energia elosztá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árolásra nincs lehetőség, az igényt az erőművek teljesítményváltoztatásával elégítik ki. (OVTSZ, BVTSZ villamos teherelosztó szolgála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aphálózat (120, 220, 400 kV, nagyfeszültsé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ő elosztóhálózat (35 kV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osztóhálózat (10-35 k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gyasztói hálózat (0,4 kV, kisfeszültsé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A feszültség növelésével csökken az energiaveszteség, így a szállítás magas feszültségszinten gazdaságos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ényá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fényáram a fény fényérzetként felfogható rész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le F, mértékegysége a lumen (lm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6697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ényerőssé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fényerősség a térszög egységre jutó fényára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le: I, egysége : candela, [cd]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énysűrűsé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z fénysűrűség felület adott irányú fajlagos fényerőssége. (Az adott irányból néző szem a felületelem látható, virtuális nagyságáról I fényerősségű hatást érzékel, ennek alapján a felületelemet valamilyen mértékben világosnak látja. Amit lát az a felületelem fénysűrűsége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le: L, egysége: cd/m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547640" y="4010040"/>
            <a:ext cx="5516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ÉNYFORRÁSO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fényáram előállításának eszközei a fényforrások. Fényforrás az a technikai berendezés, ami valamilyen, jelenlegi gyakorlatban többnyire villamos energia felhasználásával fényt állít elő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fénykeltésnek két gyakorlati lehetősége va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z egyik a hőmérsékleti sugárzáson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ásik a lumineszkáláson alapuló fénygerjeszté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őmérsékleti sugárzáson alapuló fényforráso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hőmérsékleti sugárzáson alapuló fényforrásokban a fényt hevített izzószál állítja elő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z így előállított fény színképe folytonos (minden hullámhosszon tartalmaz sugárzást) és monoton, a fény előállítás jelentős hőfejlődés mellett történik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Hőmérsékleti sugárzáson alapuló fényforrások a gyakorlatba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z izzólámpák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 kisfeszültségű halogén izzólámpák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 törpefeszültségű halogén reflektorlámpák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umineszkáláson alapuló fényforráso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lumineszkáláson alapuló fényforrásoknál a fénykeltés az atom gerjesztett állapotának eredménye. A fényt a villamos ív gerjeszti az ún. kisülőcsőben illetve esetenként a lámpabúra belső felületén lévő lumineszkáló anyag segítségével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umineszkáláson alapuló fényforráso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fénycsövek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kompakt fénycsövek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higanylámpák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kevertfényű lámpák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fémhalogén lámpák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átrium lámpák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fényforrások jellemző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fényforrásokat felhasználhatóság szempontjából a következők jellemzik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lépítése és működése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űszaki adatai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ényforrások műszaki adat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névleges feszültség: amire a fényforrást csatlakoztatni lehet, ez olyan esetekben, amikor a működéséhez segédberendezés szükséges nem azonos a hálózati feszültséggel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névleges teljesítmény: amit maga a fényforrás ( az egyes fajtáknál szükséges segédberendezések nélkül) működése során a hálózatból felvesz, a fényforrás-segédberendezés egység a hálózatból a fényforrás névleges teljesítményénél többet vesz fel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fej típus: a fényforrás hálózathoz illetve segédberendezésekhez történő csatlakozásának megoldás módja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méretek: a fényforrás beépítés szempontjából lényeges geometriai méretei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fényének minősége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spektrális eloszlás: a fény eloszlása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színhőmérséket: T(K)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színvisszaadás: Ra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gazdaságossági mutatói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fényhasznosítá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ényforrások típusa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Alállom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 alaphálózat és az elosztóhálózatok közötti feszültségtranszformálást, illetve a hálózati igények kiszolgálását látja el (szakaszolás, kapcsolás, transzformálás), a szolgáltatói oldalró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őbb része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gyfeszültségű fogadótér (általában szabadté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gszakító és szakaszoló berendezés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zformátor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pcsolótér (primer és szekunderolda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ktronikus védelmek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matikus vezérlé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ZZÓLÁMP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z izzólámpában villamos áram által melegített wolfram spirális szál szolgáltatja a fényt. A kb. 2800 C°-on izzó wolfram szál olyan üvegburában van, amely nemesgázzal töltött. A villamos csatlakozást az üvegbura egyik, vagy mindkét végén speciális fej teszi lehetővé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felépítése részben az üvegbura alakjától, részben a csatlakozó foglalattól függően sokféle lehe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ZZÓLÁMP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71680" y="2724120"/>
            <a:ext cx="3914640" cy="2324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643280" y="2548080"/>
            <a:ext cx="39243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LEKTOR LÁMP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 reflektor lámpák felépítése és működése lényegében megegyezik a normál izzólámpákéval, eltérés csupán abban van, hogy az üvegbura belső, csatlakozó fej felé eső része tükrösített és paraboloid formájú. Ennek eredményeként a lámpa adott sugárzási szögben világí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124000" y="3936960"/>
            <a:ext cx="4786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ISFESZÜLTSÉGŰ HALOGÉN IZZÓLÁMPÁ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lépítése a következőkben különbözik a normál izzólámpáétól. A fényforrás vonalszerű, a bura kvarcüveg cső, amiben jódadalék van, innen az elnevezés. A villamos csatlakozók a legtöbb típusnál a cső két végén vannak, de készül Edison foglalattal is. Működése lényegét tekintve olyan, mint az izzólámpáé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361040" y="1773360"/>
            <a:ext cx="4782960" cy="1479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319640" y="3933720"/>
            <a:ext cx="48243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ÖRPEFESZÜLTSÉGŰ HALOGÉN REFLEKTORLÁMPÁ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kis méretű halogén fényforrás egybe van építve a fényelosztást szolgáló tükrös lámpával, ilyen módon kompakt egységként kerül további beépítésre. Működése lényegét tekintve olyan, mint az izzólámpáé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427640" cy="2030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716360" y="4005360"/>
            <a:ext cx="44276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ÉNYCSÖVE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énykeltés a fénycső falán lévő fényporokkal történik, ami a cső gázkisülésének UV sugárzását alakítja át látható sugárzássá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énycső csak segéd berendezésekkel (előtét, gyújtó, kondenzátor, elektronikus előtét és gyújtó) képes üzemelni. Ezek teszik lehetővé a gázkisülés megindítását, a gyújtást, továbbá a stabil gázkisülés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4427640" cy="1876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219640" y="3716280"/>
            <a:ext cx="39243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OMPAKT FÉNYCSÖV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kompakt fénycső viszonylag kis méretű, segédberendezésekkel teljesen vagy részben összeépített vagy összeépíthető fénycső. Működése elve teljesen megegyezik a normál fénycsőéve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zokásos típusok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ktronikus vagy hagyományos előtéttel egybeépített (teljes mértékben kompakt)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yújtóval és zavarszűrővel egybeépített előtéthez dugaszolható valami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űködtető elemekhez dugaszolható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OMPAKT FÉNYCSÖV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61920" y="2414520"/>
            <a:ext cx="3133800" cy="2943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643280" y="2214720"/>
            <a:ext cx="392436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GANYLÁMP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Kettős üvegburából áll. Bekapcsoláskor a segédelektróda indítja a kvarccsőben a kisülést. A belső kvarcüveg kisülőcsőben keletkezett, csak részben látható sugárzást a külső bura fénypor bevonata alakítja fénnyé. Működéséhez segédberendezés (előtét) szükség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933800" y="1700280"/>
            <a:ext cx="3748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VERTFÉNYŰ LÁMP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4726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kevertfényű lámpa olyan higanylámpa, amelyiknek előtéte a kisülőcső és a külső bura közé épített izzószál, ami izzólámpaként működik. Ily módon működéséhez nincs szükség segédberendezésre, mint az izzólámpa úgy alkalmazható. Bekapcsoláskor a segédelektróda indítja a kvarccsőben a kisülést. A belső kvarcüveg kisülőcsőben keletkezett csak részben látható sugárzást a külső bura fénypor bevonata alakítja fénnyé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08720" y="1628640"/>
            <a:ext cx="3286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zformát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feszültség kívánt szintre történő transzformálását biztosítj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űtési mód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lajhűté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éghűté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helyezé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zformátorház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szloptranszformá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VERTFÉNYŰ LÁMP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4680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ÉMHALOGÉN LÁMP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fémhalogén lámpa kettős üvegburából áll. A belső un. kvarcüveg kisülőcsőben higanyon kívül fémhalogének vannak. A kisülőcsőben vagy segédelektróda vagy gyújtó impulzus segítségével indul meg a fényt gerjesztő kisülés. A külső üvegbura készülhet fénypor bevonattal vagy anélkü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3203640" cy="2395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500720" y="4149720"/>
            <a:ext cx="46432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GYNYOMÁSÚ NÁTRIUMLÁMPÁ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nátriumlámpa kettős burából áll. A belső nagyon jó fényáteresztő alumíniumoxid kerámia kisülőcsőben nagynyomású nátriumgőz szolgáltatja a fényt. A kisülőcsőben általában nagyfeszültségű gyújtó impulzus segítségével indul meg a fényt gerjesztő kisülés. Van olyan típus is amelyik gyújtót nem igényel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952880" y="2890800"/>
            <a:ext cx="33051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ényforrások összehasonlítás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zeték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osztóvezeték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öldkáb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égvezeté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zetékek típusa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zigeteletlen vezeték (szabadon, vagy védőcsatornáb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zigetelt vezeték (védőcsőben, vagy védőcsatornában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skáb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áb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>
            <a:lum contrast="12000"/>
          </a:blip>
          <a:srcRect l="-1982" t="-1226" r="0" b="1637"/>
          <a:stretch/>
        </p:blipFill>
        <p:spPr>
          <a:xfrm>
            <a:off x="4348080" y="907920"/>
            <a:ext cx="47959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>
            <a:lum contrast="12000"/>
          </a:blip>
          <a:srcRect l="0" t="0" r="0" b="1688"/>
          <a:stretch/>
        </p:blipFill>
        <p:spPr>
          <a:xfrm>
            <a:off x="2082960" y="0"/>
            <a:ext cx="53956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zetékek elhelyezé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Szabadon szerel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Kábeltál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Kábelcsator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Vakolatb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Védőcső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Padlócsatornáb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Parapetcsatornáb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35400" y="0"/>
            <a:ext cx="40086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alon kívüli szerelé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>
            <a:lum contrast="6000"/>
          </a:blip>
          <a:srcRect l="0" t="0" r="0" b="2951"/>
          <a:stretch/>
        </p:blipFill>
        <p:spPr>
          <a:xfrm>
            <a:off x="0" y="1773360"/>
            <a:ext cx="50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9:28:33Z</dcterms:created>
  <dc:creator>macher gábor</dc:creator>
  <dc:description/>
  <dc:language>en-US</dc:language>
  <cp:lastModifiedBy>macher gábor</cp:lastModifiedBy>
  <dcterms:modified xsi:type="dcterms:W3CDTF">2006-04-18T05:59:03Z</dcterms:modified>
  <cp:revision>8</cp:revision>
  <dc:subject/>
  <dc:title>Épületek elektromos berendezései</dc:title>
</cp:coreProperties>
</file>